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7ECE-AA76-48AD-8787-512D434C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C81D-C8DB-430B-B322-EFC3B95F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02E5-1087-4D1F-B062-405A5DE1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A87E-D939-43AF-B6FC-0BE42F3D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EB7F-F315-4A02-BD0C-8808F517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0F29-9F51-4431-8559-F9524267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9C74-56A8-4D16-B735-5302C47E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0541-5EC2-454A-A9A5-39096187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8886-8BBB-4706-BFFC-6706FA93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D24D-BBE8-48B2-96A6-8344F469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361C-EBEE-4A3A-8663-8052DE2D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8453-1994-40A3-8230-CE68C16F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8704-44AD-4071-9D62-B1DB97A8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D5DA-D8AD-4098-891C-377BB790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4AF0-785C-46E5-ABD4-6606D853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C1A2-987B-410A-962F-5CD93B47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C4BD-82CD-4EE2-81DB-74C9DE0E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D096-5DBA-4D01-A752-CF230070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1CFD-3AC5-4446-A312-19816F0A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597C-3DD0-49F1-B0F8-C1B86D73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5D04-D9DB-448F-9454-6D272A79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53DB-BDDC-401C-B078-FC72E0F3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2CBE-BAC3-4B92-A810-DA5A3F14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07C3-4368-4A93-B777-5487AA36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1e8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0704-402B-4B75-91BE-44421A0B7871}" type="slidenum">
              <a:rPr b="0" lang="ro-RO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d1e8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d1e8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1e8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d1e8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705A-39B9-4A9A-84B5-27ECF7459649}" type="slidenum">
              <a:rPr b="0" lang="ro-RO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00000" y="981000"/>
            <a:ext cx="763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Diagrama K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(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Know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/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Wonder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/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Learn</a:t>
            </a:r>
            <a:r>
              <a:rPr b="1" i="1" lang="ro-RO" sz="4000" spc="-1" strike="noStrike">
                <a:solidFill>
                  <a:srgbClr val="ff0000"/>
                </a:solidFill>
                <a:latin typeface="Arial Black"/>
              </a:rPr>
              <a:t>)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24000" y="422100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Învăţare prin colaborare on-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ite wik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55640" y="2273400"/>
          <a:ext cx="7772400" cy="410832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169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-aş vrea să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am învăţ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ite blo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7240" y="2266920"/>
          <a:ext cx="7772400" cy="411444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170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-aş vrea să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am învăţ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ite colaborare on-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2338560"/>
          <a:ext cx="7772400" cy="411444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170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-aş vrea să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am învăţ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22:27:15Z</dcterms:created>
  <dc:creator>Adriana</dc:creator>
  <dc:description/>
  <dc:language>en-US</dc:language>
  <cp:lastModifiedBy>Adi</cp:lastModifiedBy>
  <dcterms:modified xsi:type="dcterms:W3CDTF">2008-03-04T19:32:42Z</dcterms:modified>
  <cp:revision>3</cp:revision>
  <dc:subject/>
  <dc:title>Compuşi hidroxilici</dc:title>
</cp:coreProperties>
</file>